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F36D-2D32-4567-B084-3621AA3DF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Icebreake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B8D-42C3-4AD2-976C-20A688DA7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Learnin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BEA-B9BF-4A47-8CA9-341690E00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B5DD1-726E-45A3-8072-FF44D13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23FFD-70C2-4454-AA6E-4A891882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5E8EA-37BC-41C0-A4EE-42E84A0B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841A-CC54-44ED-917A-0E950202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3BA36-E032-45EE-8A2F-E11E369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B18D5-A8C5-4262-9886-2EFF71D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BA7DB-6AAF-463D-9B11-03456336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D95E-1956-44F9-A5B8-9BEC81E2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5E2C-528D-4796-854D-1FDC3B25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1E545-8403-4F2E-A541-4EF00AFF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D4ADC-A9D7-4CDE-97BD-86ECB915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1E665-ADCE-4AAD-89BB-A01875CB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42BD-CBD2-46B9-B21F-992BFCCE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0ECB9-21E6-49EB-8C51-F9D5F32C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14C4D-BC71-44F0-9158-AFB02AF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1A60B-00EB-499C-8ABF-01FC256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07B3E-BDDB-42C8-A932-5C52828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4E06C-4784-4852-A2AD-C63B2613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75965-FB78-4414-97BC-94CDB14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38924-E1F6-4F35-B18E-BC5C3C75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BAAC-2327-4B63-B114-1017134C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08A-07F7-4E78-9D78-7D5A929D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78E-DEC3-453F-8902-2615A3BE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D21-8E2A-4B82-9EFE-44FD170D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4B-B55A-433B-907A-5DED08B5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FA9-A3E3-4E24-91F9-4E65940E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742-F617-4680-9316-2C6AEB2F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7FF-4DE3-4F93-B6DB-C23ABAF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069-FC78-46E8-AB84-85C8948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DDB-D1CF-4D2D-B6C6-EF2633B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697-3CA3-446C-8B33-CDFC8BB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5DD-105C-4848-968A-15482D5D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725-B094-45E4-B468-35047E6A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0D02-6AC2-4EDD-8D46-ECE31D63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B5BC-A3F4-4676-92C1-5D9C342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26ED-0045-4AD9-93C1-3A36180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970D-5ADC-4355-A75D-1143C99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2B4A-5F65-48F5-8382-C3060C5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D241-0023-499D-807D-03C3CA7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7EB-8B33-44CE-AA4A-5EA4F454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B9E5-63C5-47A6-8E13-50318B20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20E4-F6C1-468C-B34E-4109A8A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C2C9-B686-4FC6-A8B4-3C183FFC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F4F-4178-47AF-A85D-E64D7C2C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5764-68B7-41DC-8B78-12487B97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C40D-C20E-4D15-B32C-CEF735B9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B5D6-791E-476E-9046-FABE8BB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B539-2FAB-4118-8454-8984805E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E570-50AE-4393-A52E-A92833F4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6109-1AD2-47C2-A394-394302E5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7310-0BE6-45F7-8D7B-BAEE2283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3E6F-6A02-4321-BD8F-91644D25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1F96-DBA5-4D02-B135-AB822BFD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8659-6FF9-47AA-974E-ED99D6E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F15C-1A5B-4204-808D-38AE88B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6E7F-366D-43F4-953B-7806A309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5CAC-BA4C-4220-9912-BC31DF6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30A3-5953-49FF-A97E-21544516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5249-2794-4022-8E5E-F76A967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FA0F-5D13-4D1A-AC75-060EB6E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5FBD-B3A7-496E-BA25-C3C805A1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3B23-139B-4ED5-84E8-66663BF7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C9E6-200E-4B76-B6CF-7F8B2816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FE7E-DA91-4D12-9787-DEF794B0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E6EE-053B-43E3-912D-00966AC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1A42-8A13-4E83-AAF8-FF1A22F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9FBF-A5C6-493A-874C-558D8E9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A0FB-9BA1-4E65-948D-5AC29415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5E86-3C1B-4CCB-BAE1-2753377F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FE43-05A2-427B-B361-654413D5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7DCA-F5A2-43F5-8CD7-5BC01BDA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26D0-2037-4B24-BA5B-64D63AB8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3077E-E6FE-40C6-A0E7-D70DFCC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1CAEE-A83D-4814-BCEF-0F6BF873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101F-C8EB-4B5C-B131-39129F51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D092-2A1D-45DB-8E72-80D97CA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A1B3-03D8-497C-B464-B7FF44A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C4A8-73D7-40FE-B609-C3D4CB1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69FD-7723-4C29-B982-29E14AC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566AC-F39B-42D0-92B3-E9E802FC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E45F-DE4D-44DF-918B-59968B14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902A-6FFD-43D5-84B1-C696808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E5F2-CEE1-405F-9C47-D0AFD9E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D4846-E920-4152-B857-95F196F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8198E-A015-4799-8302-9140D1B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35EC-E6F3-4C8F-BB9C-7E2B53E3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74A26-09F0-471F-9082-DBB3EFF6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9A75-628D-4B55-90B0-2C8A3790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21E61-D786-489E-BDEE-B200D54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08DD-EBE3-4B41-B9C0-3F49E2F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9FC5-9A4D-4923-82B2-1D371B50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8EB47-FF74-40A8-AA71-379A9D61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0244-4FCD-4ECA-B36E-3F5E13FD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0FAC5-F32C-43F7-B100-715BE167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C6899-23AF-4CDC-B60B-8771340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2650-8375-42BD-89A3-23E85166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0F6E-C518-41B7-8EDF-E7ED995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39EE-0F2D-4535-96BF-357A3A0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17AA-5747-44E2-8E29-8055137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E284-1438-4296-9BBC-B62B5A4D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8581-396B-4F01-A2EB-5C246D9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7A81-C84C-4E5B-B413-D7046EF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7F45-F65C-45F6-952D-9015C0ED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8A45-B3C3-497B-AF8B-7F892260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8FFD-893C-42AE-B8E1-4BFFAFF6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6B36-1E11-4F0B-816B-AD1DEF9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6FF5-FF59-45B8-AB92-FA805F2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BCE5E-F7D5-470D-A8CF-375051A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0"/>
            <a:ext cx="949320" cy="6858000"/>
          </a:xfrm>
          <a:prstGeom prst="rect">
            <a:avLst/>
          </a:prstGeom>
          <a:solidFill>
            <a:srgbClr val="186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96EA-C003-42A8-BAC0-9B77F6E6DE0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0"/>
          <p:cNvSpPr/>
          <p:nvPr/>
        </p:nvSpPr>
        <p:spPr>
          <a:xfrm>
            <a:off x="1198440" y="0"/>
            <a:ext cx="10993680" cy="960480"/>
          </a:xfrm>
          <a:prstGeom prst="rect">
            <a:avLst/>
          </a:prstGeom>
          <a:solidFill>
            <a:srgbClr val="15a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2" descr=""/>
          <p:cNvPicPr/>
          <p:nvPr/>
        </p:nvPicPr>
        <p:blipFill>
          <a:blip r:embed="rId2"/>
          <a:stretch/>
        </p:blipFill>
        <p:spPr>
          <a:xfrm>
            <a:off x="0" y="6531120"/>
            <a:ext cx="3286080" cy="326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3"/>
          <p:cNvSpPr/>
          <p:nvPr/>
        </p:nvSpPr>
        <p:spPr>
          <a:xfrm>
            <a:off x="1084320" y="6531120"/>
            <a:ext cx="11107800" cy="326880"/>
          </a:xfrm>
          <a:prstGeom prst="rect">
            <a:avLst/>
          </a:prstGeom>
          <a:solidFill>
            <a:srgbClr val="47c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0"/>
            <a:ext cx="1203480" cy="960480"/>
          </a:xfrm>
          <a:prstGeom prst="rect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3"/>
          <a:stretch/>
        </p:blipFill>
        <p:spPr>
          <a:xfrm>
            <a:off x="174600" y="104760"/>
            <a:ext cx="889200" cy="750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10925280" y="0"/>
            <a:ext cx="1266840" cy="99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"/>
          <p:cNvPicPr/>
          <p:nvPr/>
        </p:nvPicPr>
        <p:blipFill>
          <a:blip r:embed="rId3">
            <a:alphaModFix amt="61000"/>
          </a:blip>
          <a:stretch/>
        </p:blipFill>
        <p:spPr>
          <a:xfrm>
            <a:off x="0" y="632304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44E-6B99-44D9-BCB2-67A507F8165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812A-C8A7-4662-B0BF-DB6D4F1A701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85F2-33D1-4E66-8899-FBDDFA31CA9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7B8A-9025-464C-9F96-6C02664BAAB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930-8C64-4D60-9750-47E6C51E1A6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455-09C7-47F4-ADB3-BE2E26EB7B3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D415-E071-44FB-B7D5-56E1095A45C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9B6-EA09-435C-AA0F-75211CE1C60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Oval 1"/>
          <p:cNvSpPr/>
          <p:nvPr/>
        </p:nvSpPr>
        <p:spPr>
          <a:xfrm>
            <a:off x="8529480" y="3170160"/>
            <a:ext cx="3662640" cy="3687840"/>
          </a:xfrm>
          <a:prstGeom prst="ellipse">
            <a:avLst/>
          </a:prstGeom>
          <a:solidFill>
            <a:srgbClr val="e7e6e6">
              <a:alpha val="62000"/>
            </a:srgbClr>
          </a:solidFill>
          <a:ln w="1260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throw clay on the pottery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ctivity: Putting It Into Pract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49240" y="2327400"/>
            <a:ext cx="518184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 to use your program’s curriculum to support each child’s development and lea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3" descr="A young girl standing in a room&#10;&#10;Description automatically generated"/>
          <p:cNvPicPr/>
          <p:nvPr/>
        </p:nvPicPr>
        <p:blipFill>
          <a:blip r:embed="rId1"/>
          <a:stretch/>
        </p:blipFill>
        <p:spPr>
          <a:xfrm>
            <a:off x="7077240" y="2327400"/>
            <a:ext cx="41148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8:58:56Z</dcterms:created>
  <dc:creator>Microsoft Office User</dc:creator>
  <dc:description/>
  <dc:language>en-US</dc:language>
  <cp:lastModifiedBy>Treshawn Anderson</cp:lastModifiedBy>
  <dcterms:modified xsi:type="dcterms:W3CDTF">2020-04-20T20:22:09Z</dcterms:modified>
  <cp:revision>78</cp:revision>
  <dc:subject/>
  <dc:title>Implementing a Curriculum Responsive to Children’s Strengths and N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 Range">
    <vt:lpwstr/>
  </property>
  <property fmtid="{D5CDD505-2E9C-101B-9397-08002B2CF9AE}" pid="3" name="Approvers">
    <vt:lpwstr/>
  </property>
  <property fmtid="{D5CDD505-2E9C-101B-9397-08002B2CF9AE}" pid="4" name="Audience">
    <vt:lpwstr/>
  </property>
  <property fmtid="{D5CDD505-2E9C-101B-9397-08002B2CF9AE}" pid="5" name="Audiences">
    <vt:lpwstr/>
  </property>
  <property fmtid="{D5CDD505-2E9C-101B-9397-08002B2CF9AE}" pid="6" name="ComplianceAssetId">
    <vt:lpwstr/>
  </property>
  <property fmtid="{D5CDD505-2E9C-101B-9397-08002B2CF9AE}" pid="7" name="ContentTypeId">
    <vt:lpwstr>0x0101001B4C0ACEA8DAF04D970A1715B66301EA</vt:lpwstr>
  </property>
  <property fmtid="{D5CDD505-2E9C-101B-9397-08002B2CF9AE}" pid="8" name="DocumentStatus">
    <vt:lpwstr>Manager Review</vt:lpwstr>
  </property>
  <property fmtid="{D5CDD505-2E9C-101B-9397-08002B2CF9AE}" pid="9" name="National Conference">
    <vt:lpwstr/>
  </property>
  <property fmtid="{D5CDD505-2E9C-101B-9397-08002B2CF9AE}" pid="10" name="Order">
    <vt:r8>667600</vt:r8>
  </property>
  <property fmtid="{D5CDD505-2E9C-101B-9397-08002B2CF9AE}" pid="11" name="Region">
    <vt:lpwstr/>
  </property>
  <property fmtid="{D5CDD505-2E9C-101B-9397-08002B2CF9AE}" pid="12" name="SharedWithUsers">
    <vt:lpwstr/>
  </property>
  <property fmtid="{D5CDD505-2E9C-101B-9397-08002B2CF9AE}" pid="13" name="TaxCatchAll">
    <vt:lpwstr/>
  </property>
  <property fmtid="{D5CDD505-2E9C-101B-9397-08002B2CF9AE}" pid="14" name="TemplateUrl">
    <vt:lpwstr/>
  </property>
  <property fmtid="{D5CDD505-2E9C-101B-9397-08002B2CF9AE}" pid="15" name="TopicArea">
    <vt:lpwstr/>
  </property>
  <property fmtid="{D5CDD505-2E9C-101B-9397-08002B2CF9AE}" pid="16" name="Topic_Area">
    <vt:lpwstr/>
  </property>
  <property fmtid="{D5CDD505-2E9C-101B-9397-08002B2CF9AE}" pid="17" name="Webinar">
    <vt:lpwstr/>
  </property>
  <property fmtid="{D5CDD505-2E9C-101B-9397-08002B2CF9AE}" pid="18" name="Year Vetted">
    <vt:lpwstr/>
  </property>
  <property fmtid="{D5CDD505-2E9C-101B-9397-08002B2CF9AE}" pid="19" name="b172363ec58b499dad30d2b09a8896e0">
    <vt:lpwstr/>
  </property>
  <property fmtid="{D5CDD505-2E9C-101B-9397-08002B2CF9AE}" pid="20" name="ec3caad0312d4c2bb9f97715ae0cf85a">
    <vt:lpwstr/>
  </property>
  <property fmtid="{D5CDD505-2E9C-101B-9397-08002B2CF9AE}" pid="21" name="fcbb0cf91974408394499761fa7977d2">
    <vt:lpwstr/>
  </property>
  <property fmtid="{D5CDD505-2E9C-101B-9397-08002B2CF9AE}" pid="22" name="g5cbabc475af428e8a4b767b325afa7b">
    <vt:lpwstr/>
  </property>
  <property fmtid="{D5CDD505-2E9C-101B-9397-08002B2CF9AE}" pid="23" name="k112b48b8b0842abbe71d39765b03e81">
    <vt:lpwstr/>
  </property>
  <property fmtid="{D5CDD505-2E9C-101B-9397-08002B2CF9AE}" pid="24" name="lc402643ecbf4499b639d533dae17ca9">
    <vt:lpwstr/>
  </property>
  <property fmtid="{D5CDD505-2E9C-101B-9397-08002B2CF9AE}" pid="25" name="m467fd03801e42aeb7355f8ac300c17b">
    <vt:lpwstr/>
  </property>
  <property fmtid="{D5CDD505-2E9C-101B-9397-08002B2CF9AE}" pid="26" name="o04817ec836b43088d222d88b97d0ffb">
    <vt:lpwstr/>
  </property>
  <property fmtid="{D5CDD505-2E9C-101B-9397-08002B2CF9AE}" pid="27" name="p22cc5a201e14acc82f079247ea5c295">
    <vt:lpwstr/>
  </property>
  <property fmtid="{D5CDD505-2E9C-101B-9397-08002B2CF9AE}" pid="28" name="xd_ProgID">
    <vt:lpwstr/>
  </property>
  <property fmtid="{D5CDD505-2E9C-101B-9397-08002B2CF9AE}" pid="29" name="xd_Signature">
    <vt:bool>0</vt:bool>
  </property>
</Properties>
</file>