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66B2-A026-49BB-9410-D4C9F8210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Icebreake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A8E4-EFDB-4121-BDD0-744B77827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Learnin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571E-0DF6-476A-8CC5-CCE25CFDE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F21A0-BC1E-4AC0-B926-9553066C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7878-DBD4-4829-8CE4-2724F653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1EF43-31AD-4E78-BFEF-965D251B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513DB-CAC2-4737-B36F-EE88FB7A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D1B76-1D96-40BE-9D08-2FDC740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AB263-F44A-4D6D-9956-94E277D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14C4F-B786-4700-9E3D-DC517332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E6946-A37A-4D42-B339-68269014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8DB67-6787-4926-9E52-4116A6CC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0E9CE-F1B2-4618-AE9C-B8AC4B93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8541D-5FC2-4E65-A336-4E63C30B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ABC59-1BE0-4863-9782-08BDC58D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753B4-E10E-4C16-9E4E-DC22B768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71ADD-F393-4382-8E24-EA376023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7F7CC-9DE7-4850-8717-5F65BB6B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B0568-A37D-494F-9428-0A532A27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51375-2078-4304-828E-C881B11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B0240-4D3F-4784-872A-6311C281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65757-2A1F-4BCC-AFD1-24EEB422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00FAD-D3D2-46C7-9986-F8F603C9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8BF55-E1C8-439A-A5CE-1A52D9CC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61B-8D26-44E2-BC31-FB2720A2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9C3-05C9-444E-98DE-C1735FB9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B00-7DB4-4140-8496-A48DA77A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C03-1019-4CB0-924D-1F6BB323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BF7-5517-476D-B15E-3A6E4857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4A9-EA52-4684-8A89-609BF7AE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040-0840-4F13-B9FC-365D61F8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398-9124-4484-99FF-4299B1A2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FAB-FBCF-4113-A6B1-CCC79309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A1D-85AB-4784-A376-C616D3EA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589-6CA8-4EEE-BB62-C97D93D8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743-7DE7-451A-9A42-108BC20E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D291-3ED4-4DF7-8BDE-E569E59B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EA1E-80F0-466B-8227-7AE37DF6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D91F-AC64-479C-B5CC-8E76F451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DE8D-19FB-40B8-A94F-48BD462D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EDDB-D6E9-4536-9FDB-CA3EC732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1782-8399-4FC2-B13A-69B0F8B2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873E-243C-4F14-8474-96A1A0D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46C-6597-488E-BAC1-163837D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3B74-E4AD-4946-B81B-71920F83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D8E4-0734-4E18-93D7-841258A6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6D79-2BC4-42A9-9DA6-ABE39A81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D6E5-BC3B-4AD6-8F4C-A1B3C2C0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09D8-F6AD-4CEB-9E6B-F7814307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E613-238C-4942-AA54-A785E7E0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A352-7E82-4597-921A-5395BD28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76E58-BC63-446D-8F6B-EE17460F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25F5-F194-4421-A0EE-5E7BD408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1C08-E360-42C8-ADD6-FA468DF0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CEFB-2442-4CAF-B812-D8DF64D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C0C9-944C-4FFB-B355-177D765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D8074-3980-4E58-86E9-8183081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E63A-DDA3-483E-9B50-F9A01E39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9C0B8-AF37-49E3-B248-9CA9E891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A90A-C799-482F-B4B4-51060C34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2F21-282E-4577-9F11-37A3BFA4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B938-26B2-49DB-AFDF-C7BD2C76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29D1-3133-4E77-A799-81B9A29E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23F4-0986-446A-8769-590FF52A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17F8-059C-4247-A58B-2EB392C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7C67-65D1-49AD-A139-DA17569E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84CB-B791-4D8C-B063-4F51E39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284D-5AFE-4B4B-AB2F-B75E2A7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5F007-004E-44AA-A72A-9E0B123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1679-33A0-4FFC-BA3F-C6C481D4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B621-434D-4BD0-91B6-99B36E6D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578FF-F90B-4783-A610-D299F032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D9E2-C9C8-4D74-B7AD-7E56E241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D196-935D-4053-B832-605E355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F895-D6C6-4F0D-9094-16EE18FA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371A1-9EFC-4BFC-875E-BC694787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54B07-3B98-43D1-B831-A8BDB8C9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974A1-DCA1-4449-A851-FBEAFD0D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8B8B-E4C2-40BE-93F6-1D6647C6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FA70-88A3-4421-B59B-EFA439F6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9A43B-46CA-4A64-9087-D9B2F288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1C57-D880-431F-8069-9B52C3DB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B3D6-AEFB-4DB4-B704-E959899C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0F92B-3425-404F-BFDF-05CF0017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3AA26-ABF2-4729-9402-08FAD6AC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61F4D-2178-40E7-97FC-0BB1B923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B2343-9B3C-4C3A-8249-68F4BC22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9E844-7B16-4C12-B5C0-09693E95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B1BC1-7F26-4ABF-92F8-37061260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8C1F1-CC35-4C16-9503-BEF2E99B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7D419-1566-4115-874B-5D9DC36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92133-F13D-4A32-95E4-BC73FA9B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A9EEF-9E32-4D75-8594-FBA70BB9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639F-3A70-4D2B-BC2E-D55B7F55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8E384-B894-46CA-A623-B9C6A40C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DA7CA-1DC1-46EF-94F5-843CC7F5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859AA-E09B-4717-89B6-A7712256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17078-1BF3-40E3-A7B3-3AF46943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F7F7-17B5-43A6-A2AE-5410D14F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DE85A-E68D-4655-A79A-050C5364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56A48-F78F-4E47-9A1F-0B7E530F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2B34-6915-443A-BE31-2FE2AA9E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3800-D057-438D-8C18-3228A8D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46DC7-A64C-4ABB-A948-3CBA844A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5A9E-4B6B-4E0E-B223-44C8578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2255E-6C49-4CEA-B044-D1220081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CEA95-06BB-44DE-B763-F0D3531B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BC4E0-6BA0-4BBF-9AD6-91D40CDC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FECFB-86BA-444F-8234-D44F2982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7C2FB-A836-4022-9D06-6D8008D7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C029-0A34-4DA2-8DAC-CF4A7AF9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0"/>
            <a:ext cx="949320" cy="6858000"/>
          </a:xfrm>
          <a:prstGeom prst="rect">
            <a:avLst/>
          </a:prstGeom>
          <a:solidFill>
            <a:srgbClr val="186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0B24-A542-4A21-818E-AAE36FEB6FF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0"/>
          <p:cNvSpPr/>
          <p:nvPr/>
        </p:nvSpPr>
        <p:spPr>
          <a:xfrm>
            <a:off x="1198440" y="0"/>
            <a:ext cx="10993680" cy="960480"/>
          </a:xfrm>
          <a:prstGeom prst="rect">
            <a:avLst/>
          </a:prstGeom>
          <a:solidFill>
            <a:srgbClr val="15a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2" descr=""/>
          <p:cNvPicPr/>
          <p:nvPr/>
        </p:nvPicPr>
        <p:blipFill>
          <a:blip r:embed="rId2"/>
          <a:stretch/>
        </p:blipFill>
        <p:spPr>
          <a:xfrm>
            <a:off x="0" y="6531120"/>
            <a:ext cx="3286080" cy="326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3"/>
          <p:cNvSpPr/>
          <p:nvPr/>
        </p:nvSpPr>
        <p:spPr>
          <a:xfrm>
            <a:off x="1084320" y="6531120"/>
            <a:ext cx="11107800" cy="326880"/>
          </a:xfrm>
          <a:prstGeom prst="rect">
            <a:avLst/>
          </a:prstGeom>
          <a:solidFill>
            <a:srgbClr val="47c0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0" y="0"/>
            <a:ext cx="1203480" cy="960480"/>
          </a:xfrm>
          <a:prstGeom prst="rect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3"/>
          <a:stretch/>
        </p:blipFill>
        <p:spPr>
          <a:xfrm>
            <a:off x="174600" y="104760"/>
            <a:ext cx="889200" cy="750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"/>
          <p:cNvPicPr/>
          <p:nvPr/>
        </p:nvPicPr>
        <p:blipFill>
          <a:blip r:embed="rId2"/>
          <a:stretch/>
        </p:blipFill>
        <p:spPr>
          <a:xfrm>
            <a:off x="10925280" y="0"/>
            <a:ext cx="1266840" cy="993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8" descr=""/>
          <p:cNvPicPr/>
          <p:nvPr/>
        </p:nvPicPr>
        <p:blipFill>
          <a:blip r:embed="rId3">
            <a:alphaModFix amt="61000"/>
          </a:blip>
          <a:stretch/>
        </p:blipFill>
        <p:spPr>
          <a:xfrm>
            <a:off x="0" y="632304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05E9-3BC6-4925-98EC-173DEDF129E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B64-97FA-4C75-899C-B94044F706D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1FA7-B78A-4DB5-B4D1-5074B99C482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DEB3-8260-4D4E-AE16-FF82B48C5C0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5578-3AF7-4EF2-BD67-C427F251C42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1E71-C1D1-49CA-853A-7170A9CFB7C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84EB-57C5-4E8F-9EE8-E2E20C186DF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093B-BBD4-4D0F-8B81-B4A9E4E7FAC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Oval 1"/>
          <p:cNvSpPr/>
          <p:nvPr/>
        </p:nvSpPr>
        <p:spPr>
          <a:xfrm>
            <a:off x="8529480" y="3170160"/>
            <a:ext cx="3662640" cy="3687840"/>
          </a:xfrm>
          <a:prstGeom prst="ellipse">
            <a:avLst/>
          </a:prstGeom>
          <a:solidFill>
            <a:srgbClr val="e7e6e6">
              <a:alpha val="62000"/>
            </a:srgbClr>
          </a:solidFill>
          <a:ln w="1260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throw clay on the pottery whe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utting It Into Practi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120680" y="2390760"/>
            <a:ext cx="5181840" cy="27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 how you can use your home-based curriculum to help a family support their child’s development and learn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Content Placeholder 5" descr="A person sitting at a table&#10;&#10;Description automatically generated"/>
          <p:cNvPicPr/>
          <p:nvPr/>
        </p:nvPicPr>
        <p:blipFill>
          <a:blip r:embed="rId1"/>
          <a:stretch/>
        </p:blipFill>
        <p:spPr>
          <a:xfrm>
            <a:off x="6823080" y="1943280"/>
            <a:ext cx="4816440" cy="34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18:58:56Z</dcterms:created>
  <dc:creator>Microsoft Office User</dc:creator>
  <dc:description/>
  <dc:language>en-US</dc:language>
  <cp:lastModifiedBy>Allyson Dean</cp:lastModifiedBy>
  <dcterms:modified xsi:type="dcterms:W3CDTF">2020-02-16T20:06:39Z</dcterms:modified>
  <cp:revision>66</cp:revision>
  <dc:subject/>
  <dc:title>Implementing a Curriculum Responsive to Children’s Strengths and N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ge Range">
    <vt:lpwstr/>
  </property>
  <property fmtid="{D5CDD505-2E9C-101B-9397-08002B2CF9AE}" pid="3" name="Approvers">
    <vt:lpwstr/>
  </property>
  <property fmtid="{D5CDD505-2E9C-101B-9397-08002B2CF9AE}" pid="4" name="Audience">
    <vt:lpwstr/>
  </property>
  <property fmtid="{D5CDD505-2E9C-101B-9397-08002B2CF9AE}" pid="5" name="Audiences">
    <vt:lpwstr/>
  </property>
  <property fmtid="{D5CDD505-2E9C-101B-9397-08002B2CF9AE}" pid="6" name="ComplianceAssetId">
    <vt:lpwstr/>
  </property>
  <property fmtid="{D5CDD505-2E9C-101B-9397-08002B2CF9AE}" pid="7" name="ContentTypeId">
    <vt:lpwstr>0x0101001B4C0ACEA8DAF04D970A1715B66301EA</vt:lpwstr>
  </property>
  <property fmtid="{D5CDD505-2E9C-101B-9397-08002B2CF9AE}" pid="8" name="DocumentStatus">
    <vt:lpwstr>Manager Review</vt:lpwstr>
  </property>
  <property fmtid="{D5CDD505-2E9C-101B-9397-08002B2CF9AE}" pid="9" name="National Conference">
    <vt:lpwstr/>
  </property>
  <property fmtid="{D5CDD505-2E9C-101B-9397-08002B2CF9AE}" pid="10" name="Order">
    <vt:r8>670100</vt:r8>
  </property>
  <property fmtid="{D5CDD505-2E9C-101B-9397-08002B2CF9AE}" pid="11" name="Region">
    <vt:lpwstr/>
  </property>
  <property fmtid="{D5CDD505-2E9C-101B-9397-08002B2CF9AE}" pid="12" name="SharedWithUsers">
    <vt:lpwstr/>
  </property>
  <property fmtid="{D5CDD505-2E9C-101B-9397-08002B2CF9AE}" pid="13" name="TaxCatchAll">
    <vt:lpwstr/>
  </property>
  <property fmtid="{D5CDD505-2E9C-101B-9397-08002B2CF9AE}" pid="14" name="TemplateUrl">
    <vt:lpwstr/>
  </property>
  <property fmtid="{D5CDD505-2E9C-101B-9397-08002B2CF9AE}" pid="15" name="TopicArea">
    <vt:lpwstr/>
  </property>
  <property fmtid="{D5CDD505-2E9C-101B-9397-08002B2CF9AE}" pid="16" name="Topic_Area">
    <vt:lpwstr/>
  </property>
  <property fmtid="{D5CDD505-2E9C-101B-9397-08002B2CF9AE}" pid="17" name="Webinar">
    <vt:lpwstr/>
  </property>
  <property fmtid="{D5CDD505-2E9C-101B-9397-08002B2CF9AE}" pid="18" name="Year Vetted">
    <vt:lpwstr/>
  </property>
  <property fmtid="{D5CDD505-2E9C-101B-9397-08002B2CF9AE}" pid="19" name="b172363ec58b499dad30d2b09a8896e0">
    <vt:lpwstr/>
  </property>
  <property fmtid="{D5CDD505-2E9C-101B-9397-08002B2CF9AE}" pid="20" name="ec3caad0312d4c2bb9f97715ae0cf85a">
    <vt:lpwstr/>
  </property>
  <property fmtid="{D5CDD505-2E9C-101B-9397-08002B2CF9AE}" pid="21" name="fcbb0cf91974408394499761fa7977d2">
    <vt:lpwstr/>
  </property>
  <property fmtid="{D5CDD505-2E9C-101B-9397-08002B2CF9AE}" pid="22" name="g5cbabc475af428e8a4b767b325afa7b">
    <vt:lpwstr/>
  </property>
  <property fmtid="{D5CDD505-2E9C-101B-9397-08002B2CF9AE}" pid="23" name="k112b48b8b0842abbe71d39765b03e81">
    <vt:lpwstr/>
  </property>
  <property fmtid="{D5CDD505-2E9C-101B-9397-08002B2CF9AE}" pid="24" name="lc402643ecbf4499b639d533dae17ca9">
    <vt:lpwstr/>
  </property>
  <property fmtid="{D5CDD505-2E9C-101B-9397-08002B2CF9AE}" pid="25" name="m467fd03801e42aeb7355f8ac300c17b">
    <vt:lpwstr/>
  </property>
  <property fmtid="{D5CDD505-2E9C-101B-9397-08002B2CF9AE}" pid="26" name="o04817ec836b43088d222d88b97d0ffb">
    <vt:lpwstr/>
  </property>
  <property fmtid="{D5CDD505-2E9C-101B-9397-08002B2CF9AE}" pid="27" name="p22cc5a201e14acc82f079247ea5c295">
    <vt:lpwstr/>
  </property>
  <property fmtid="{D5CDD505-2E9C-101B-9397-08002B2CF9AE}" pid="28" name="xd_ProgID">
    <vt:lpwstr/>
  </property>
  <property fmtid="{D5CDD505-2E9C-101B-9397-08002B2CF9AE}" pid="29" name="xd_Signature">
    <vt:bool>0</vt:bool>
  </property>
</Properties>
</file>